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media/image26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25.jpeg" ContentType="image/jpeg"/>
  <Override PartName="/ppt/media/image4.jpeg" ContentType="image/jpeg"/>
  <Override PartName="/ppt/media/elephant.wav" ContentType="audio/x-wav"/>
  <Override PartName="/ppt/media/image2.jpeg" ContentType="image/jpeg"/>
  <Override PartName="/ppt/media/image20.png" ContentType="image/png"/>
  <Override PartName="/ppt/media/image7.jpeg" ContentType="image/jpeg"/>
  <Override PartName="/ppt/media/image6.jpeg" ContentType="image/jpeg"/>
  <Override PartName="/ppt/media/catgrowl.wav" ContentType="audio/x-wav"/>
  <Override PartName="/ppt/media/image9.jpeg" ContentType="image/jpeg"/>
  <Override PartName="/ppt/media/image24.png" ContentType="image/png"/>
  <Override PartName="/ppt/media/image11.jpeg" ContentType="image/jpeg"/>
  <Override PartName="/ppt/media/image3.jpeg" ContentType="image/jpeg"/>
  <Override PartName="/ppt/media/chomp.wav" ContentType="audio/x-wav"/>
  <Override PartName="/ppt/media/image15.jpeg" ContentType="image/jpeg"/>
  <Override PartName="/ppt/media/image1.jpeg" ContentType="image/jpeg"/>
  <Override PartName="/ppt/media/image22.jpeg" ContentType="image/jpeg"/>
  <Override PartName="/ppt/media/image12.jpeg" ContentType="image/jpeg"/>
  <Override PartName="/ppt/media/image13.jpeg" ContentType="image/jpeg"/>
  <Override PartName="/ppt/media/image23.png" ContentType="image/png"/>
  <Override PartName="/ppt/media/image14.jpeg" ContentType="image/jpeg"/>
  <Override PartName="/ppt/media/buzzer.wav" ContentType="audio/x-wav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  <p:sldId id="274" r:id="rId48"/>
    <p:sldId id="275" r:id="rId49"/>
    <p:sldId id="276" r:id="rId50"/>
    <p:sldId id="277" r:id="rId51"/>
    <p:sldId id="278" r:id="rId52"/>
    <p:sldId id="279" r:id="rId53"/>
    <p:sldId id="280" r:id="rId54"/>
    <p:sldId id="281" r:id="rId55"/>
    <p:sldId id="282" r:id="rId56"/>
    <p:sldId id="283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slide" Target="slides/slide19.xml"/><Relationship Id="rId49" Type="http://schemas.openxmlformats.org/officeDocument/2006/relationships/slide" Target="slides/slide20.xml"/><Relationship Id="rId50" Type="http://schemas.openxmlformats.org/officeDocument/2006/relationships/slide" Target="slides/slide21.xml"/><Relationship Id="rId51" Type="http://schemas.openxmlformats.org/officeDocument/2006/relationships/slide" Target="slides/slide22.xml"/><Relationship Id="rId52" Type="http://schemas.openxmlformats.org/officeDocument/2006/relationships/slide" Target="slides/slide23.xml"/><Relationship Id="rId53" Type="http://schemas.openxmlformats.org/officeDocument/2006/relationships/slide" Target="slides/slide24.xml"/><Relationship Id="rId54" Type="http://schemas.openxmlformats.org/officeDocument/2006/relationships/slide" Target="slides/slide25.xml"/><Relationship Id="rId55" Type="http://schemas.openxmlformats.org/officeDocument/2006/relationships/slide" Target="slides/slide26.xml"/><Relationship Id="rId56" Type="http://schemas.openxmlformats.org/officeDocument/2006/relationships/slide" Target="slides/slide27.xml"/><Relationship Id="rId57" Type="http://schemas.openxmlformats.org/officeDocument/2006/relationships/slide" Target="slides/slide28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 type="dt" idx="7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5"/>
          <p:cNvSpPr>
            <a:spLocks noGrp="1"/>
          </p:cNvSpPr>
          <p:nvPr>
            <p:ph type="ftr" idx="7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PlaceHolder 6"/>
          <p:cNvSpPr>
            <a:spLocks noGrp="1"/>
          </p:cNvSpPr>
          <p:nvPr>
            <p:ph type="sldNum" idx="7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0E71-F91B-41B1-A246-D6C5AAEB0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8292-4C47-48D7-AC8A-BBEA1F4F24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0A1B-AB1D-4022-9171-3AA3796580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36C0-429B-486C-9EB9-43BEDBF476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D512-4A77-4294-8C3E-412457BE77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030E-A19A-4A7C-A609-535BDCADD8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7AE8-616F-471A-8965-3BC0F82FA5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CE3D-45DD-4DFA-8F85-24A5D70B67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430D-3290-480C-BCDE-2BA321CD59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6157-9FFA-4DDE-B393-83DD10E21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8F93-6E58-478A-89FA-69C14737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7B047-4267-4FE1-A4B2-CAE67CF9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2989C-C9F7-4479-9CFE-1EB70EC7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4EE10-FB4E-4F10-9144-F4B5C73B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4B245-6CC8-456A-8D71-E5C6C89A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54DA2-DE9B-4360-A3E1-B40D2D0C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056A7-D1E1-4C67-A8BB-CE1B6F6E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29ACC-BBFA-45D8-B839-18A88581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1292D-0AAE-4B63-B58B-C26755F9A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1B33D-B503-4777-BB04-9D6DBC320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B6DDD-4209-4284-B5D2-53635E74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0195-29A2-4CD8-842F-8A5FD6FA3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4422D-08B0-4918-A6B3-95F68D28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30384-E864-4442-88C6-33C45964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26777-02A9-4919-8FFD-35DEB8E3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38D09-396C-43B3-B781-55DEED79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24653-7C01-4E6A-956A-15F088A0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45937-43FC-4FA1-A78D-5DBDEE12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463A1-9988-411C-9E11-56079251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28F92-4757-4188-95EE-43FCE34D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CE690-2FB3-4DDB-A5E0-B1D9B516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AEA47-6E0C-48CF-87FE-15DE5C112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8AE6-C5A1-4148-B329-98E1735F2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418B5-CDFF-4AE0-BA21-E52BA90E7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70F6D-4235-454D-AD0C-E61E3C1E8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8B72F-6ECD-44A3-B49A-30407054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04D6F-A778-4B19-BBE8-00A83291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DD23B-A47E-42A5-BEBB-F39641FD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93C6C-806C-4B05-9977-E45109F6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3EB95-3815-4F2A-A316-5FE33009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0EA04-670E-46B0-B78F-6560EA11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976A5-D7FE-45FD-92D7-657552A8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EE354-4927-4E1F-81FE-F0185024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94F52-165F-490D-BCA3-9B8AF8BC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0C3B9-3946-4B3B-9646-09BEFFCCD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15C48-8B94-485E-9C11-2C37C286E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33496-A484-453A-BBA2-279E1BF89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F1A83-1152-4EB9-B0E9-DCEC8DFB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821756-B19D-432E-9D11-7E15D75E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759E6-0E69-47F6-BDFB-07AAA39C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E95FB-FB8E-4C04-909F-7BB63AC5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55A32-3074-4D67-84BE-73E71226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3072F3-FBA2-40AC-ABCD-A52729CF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1CDE2-B71B-49F1-AA1C-BECC9220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F3A2FD-A394-48E8-BC78-D95AD018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2AF91-2537-4854-AEC4-981B661F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27CFFD-F0AC-4A7B-B069-FA76F0FD3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3A93BB-61E3-46C5-99A4-8E5C43B49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DC2367-1DAE-4609-9709-E72FB3C8D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FF87B0-8B3E-4D8B-9188-4222E288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DB26F8-4551-4483-9672-C710C300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D6B388-0928-4325-9697-7F28BF07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191CBB-FCC2-451D-97A7-EC4FA719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85EEF0-50C8-4232-9370-BE9FC8BC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F3C82-F5BC-4313-8E94-E95A6D90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7277E-074F-4935-9D45-D2DCE04A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AC210-72AE-4EB5-8E71-306E73C7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3B1A84-E358-4110-80C4-DF340D63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CE0C0D-F17C-4295-BE98-62A763B49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CC51FE-1B14-4A1F-9F3C-932DE4A81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AC285-F5F2-4CEB-B218-9CEF81F42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6B129-ED4B-4E5D-81C5-CFEA278C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0E4724-E876-4CED-BA97-E44F098F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68284-2DF3-4972-B5C8-BBE551B6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32D48-85E4-4D61-BE61-F5D91025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948F6-C096-448A-9338-2EDFF373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9F3DC-DB71-4F66-89B0-71F23CC6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80183-C7CE-4FAD-9D96-CF369CB1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B53BC-4063-4ACE-BBFF-991B36AE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82053-2E63-452B-AA86-D5F71678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65A8C-A39A-4375-A410-4B96AEAD9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1FD1A-0472-4CE1-8EF6-5B0B529FF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F7060F-9612-4E9E-A3B6-83A1BF7C4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5761C1-5C93-4BD8-B725-C7D3C5C2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2B84C0-A283-476D-BEFC-903D1FFF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01DE23-24E6-487E-B8AA-7928A502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E96220-70CA-44F9-BEEB-398968D3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8F7997-6BF7-484B-95EB-B0A272FE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7B5A19-EE48-4412-8F47-4C6BA19D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32ECFC-34B2-4B43-834A-35D04748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CB145A-12A0-4B01-A531-B7ED9AB6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CBDFEE-42E9-4680-B740-F0F1A0B9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CFD249-7EAC-483C-9626-907721F7E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E615F5-7A32-4B1C-B827-EC18FDE09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3686D6-55E9-45C1-9BF8-094DB9960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F9FCA3-04C2-4319-B98F-F402F424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6F4084-CEE7-47FE-BD76-113ACA40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E745AA-FAC3-4AD6-92AE-5FDDD0AD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E9218E-D42C-488A-924E-4AEAE7DB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752F91-7F9C-4509-93B2-1FD495D2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E98890-BC89-41CC-8035-EFD33989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E61062-A8D4-483E-A486-42AB19F9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69429C-7A1C-418D-B7A3-7BAD85C6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29226C-D0E1-4452-BB98-81D49A62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5693C4-41E5-4D29-9CFE-747586978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A7AD50-12BA-4806-AD63-23B3DE06B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A71CAE-1E86-4E47-BE80-73B653AE3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4DF05B-C561-469D-82B2-73ED67B0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B743A1-12F8-42EB-BE8F-754EFAB1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5469F8-1CF3-4A87-8477-BDC8BA28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D17384-90FB-4C56-A945-6A99EBC3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C17C33-9B91-4880-8325-F3B1F1EC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5B351F-7123-495B-A77F-17056A1C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6F0E-067C-4B2C-BAC6-20BCD3AF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33B007-D070-4557-A3AD-9223532C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9EBFF4-27A8-4226-8F52-2C2B90A0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1773F3-1C18-40BA-9006-C577D36E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A424BB-CC5A-4EDC-AED3-C5FDA8D94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09127D-A965-429B-8589-EB67BA0BE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FB5C10-0CB3-4586-A3F2-8D197BF94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498497-4ED9-463A-B0F0-F81AD25A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CA7FFD-E797-4867-8E10-BED1057B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2E94D2-D25E-49E0-8BBE-0E312CC7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86CE49-A4EA-4948-ADA0-A6DE18CF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BA625B-E133-41E0-9393-C4307CE7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C01576-C47A-41F9-9737-0103BDC4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9C2AD8-A4A4-48CE-8684-B9099911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D24E55-6ACD-4A2F-9A48-C233F0AA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089AE3-5AC5-4D1F-84E9-706AABB2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799845-2FBC-4720-8219-194403F66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986E1F-B802-479E-893B-E87EC8F94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C31EAA-4D7D-49BE-8367-02CAE0492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8C4D50-6F44-4C79-8AAF-1019705A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A6E650-EE9B-48B4-9AE3-7D4DF0CE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6930BF-1DD3-4726-B5E7-6A299D2B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AAD071-4284-4D5E-A416-5E539435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62592E-4BB9-4830-83D6-EEBE6A57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8ED08C-76B5-4ADC-8D63-ECD02C89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F982D2-C034-4276-9F8F-24AA2BFC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039F56-D1E6-4EB9-9428-CA54905E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037748-8376-4A90-982F-BC62FA0A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6D7AE9-1E93-4ED2-9EA0-7A53CC3CD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ADCD5E-AC87-42CE-AC68-BADA1C439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D0724A-071B-42A5-A5EE-F66A42FA2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8E5EE4-5F73-431E-9D4E-B4175BDD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CB77E8-4014-471C-A00A-A4745343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63111D-95E0-4254-A99C-200D4E41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AAA5B8-28E7-4534-A7F1-D7BF41A1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D6484A-CED0-4FE0-9C30-359F9148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67D4CB-DFB6-4E76-8A4B-F60B7A2B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41799E-850B-434F-B0ED-EB9F3FF4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14D647-3B98-4759-8ACE-4E08DC65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EF2294-4460-4A55-B0D7-9FA74547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1F4023-1054-45C1-9CCB-6C243497C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3F7713-AFC1-4DD8-8322-600FF2DCB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B576AC-61DC-421F-BEE6-7D11B68D5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C46D9A-21FA-48FA-BE06-9258B742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76F0AA-731D-4B08-B539-79FF82B5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AFA893-A0FE-4158-9892-50476128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301D3A-11F6-4E23-AE5C-7194A952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0C7DA0-6994-49F6-AFFD-E6DB7BAC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3AF5FD-E20F-469D-BB29-73B67627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8FE33D-D56E-4E83-AB95-EC7B94F4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2B5007-4768-46D0-B6E1-B32FC6CD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99A9AB-EAB3-4835-B903-972E158E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27277D-A736-4072-B969-7E81676A5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C10F78-CE29-4709-A418-7E546F0E8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BCC88D-4155-4C49-9BA1-1BE2C65B0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1E0A2A-7833-42B0-84E6-AD5DE23A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14D8BF-34F8-4409-A0CA-4A6B94B5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9BA969-55D3-42A7-8CAF-60AA3AE8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591125-FC34-4FB1-A4FF-4218697B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786F49-EECB-47E2-BA66-F9D21A33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6D6ECE-AF53-4C79-A655-1B76C302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AA5F09-9917-4957-A8A1-9D7D544D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81D2DC-F611-451F-8DF4-C9737A77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830589-F4D0-4729-AF8C-328B7D8A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21BFE5-48AE-488A-99D7-43A342D8F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FCEC35-41F6-4C17-A9BE-C37129AA2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4E18C4-FECC-40A8-8664-1DDB35A4E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9FFA74-8424-4040-A575-3B29D00C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C5D860-6A78-4BC3-AE0B-B8FE0C92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32E538-FAA2-4E33-AC2A-B10E8A5F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44F5A7-55BA-4B7A-AFA1-23C51621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66557B-E2D9-463D-B56F-0227F2B0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A66036-0899-412D-9DAC-221DBB20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57B1AD-3344-4F28-8135-1684289F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3A3673-0998-49D4-9A36-2EA0541A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F1DBC9-7B79-48F2-96DF-FE4105F4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3EEF73-3D19-4C32-85B6-BA9C3E962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C2B75D-93B4-4F39-8471-E855BC1E9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3AE978-7C9D-424D-9089-AB2F32526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809BA9-ABE2-4C19-8679-375EC308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048701-6D68-46BE-883D-15A5959A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4864EE-7A68-43D9-99B8-73EEA862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FD0B35-6F50-4682-A242-B77A56D7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C5E527-9E07-4F77-B7CD-4646DD65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205955-F9A2-4E9B-92BE-3ACDC24F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20F489-EAFD-44D9-9227-D04E045C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A31D66-BF66-49BB-8FC7-D55DE17F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316DA2-67F1-4BEC-BA72-98100956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CDC035-087F-4472-B710-A222342E8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D13E65-CD4D-45AE-89CC-9BAC05A0C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60663D-8C58-4913-AA5F-F46597401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0C863E-45F1-4C8E-8F3F-A89752E2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052F55-1612-45FB-AC59-780A6684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CDF469-333A-40DF-B1CF-F8C5BB5D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9796C2-32F8-4E97-A157-CC8B1605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47CE84-F008-4BE6-A3F7-5D51E9D9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40A292-9E70-40CA-8940-D611ECA7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19C333-8E99-4B95-8641-3F30B916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C62BE1-5676-42B6-87FF-3FBBAC5F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F51C82-EFA3-4E62-8CAF-0F806BCD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8CC37D-54AB-48C1-A855-958F6A57D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A304-6E5E-42B5-8C5F-B47E9ACE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380516-BF88-4FC0-BA31-066F2BC90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DCCA17-1149-44FC-92E2-AC81E298E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BBCD4C-35C4-4947-A19C-1A8DCC40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0797CE-12ED-4DC5-9FD7-61B82BC5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816FCF-F89D-4B04-98AE-C3A8D672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5D4A2D-E375-47AF-BF30-23A8215B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B45A83-8015-4F47-BE7E-30071B14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78A1AE-462B-485C-A7FF-761FBF65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3386F1-2D7A-4ED1-9ACD-4AE7BE2D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605CB5-0E27-469B-BEF0-BB91FFA1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625611-6B59-4DE4-B368-E07FEACF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878979-F5D3-4F2E-8EBE-16F029332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02C10C-24BB-4415-803A-6226527C8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4AB0F0-91B2-4FE9-A08B-2FDBA593F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619574-12AF-42C3-B382-2E20172B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550371-3A5B-4245-B4A8-723E6B06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75D27F-E3A7-4774-88DF-0230852D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F906EEC-C4B0-4FD2-99C4-D52C0911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674A19-6074-4D3E-AEDA-720EF03D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2D7923-CF0D-4441-9B8B-C77BBA50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37D90A-0EC0-4DC8-8683-63B46924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C77C4F-9272-41D6-8951-5ED5C048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E67B05-1C84-4E94-8D03-37745114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A07224-229C-4403-AC7E-5426F74AC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3F3EF6-052D-49E1-8AF5-1E9330702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749E-997D-48D8-8830-FE47E373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2B6B-3205-4F8B-9839-E1B52B70F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E52E-B827-4930-B872-701216A2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7981-FB12-4B25-9CDF-C1CE4417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4E6E-F36F-46B2-9A6D-7BC6CB07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DC05-A8E2-4BCA-8BAD-E02C58AA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5D94-BB5F-4DBE-9240-9208782C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FC28-18B0-4717-BC5A-EE02DC12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ABCC-2254-4E28-955C-ECE58868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77B7-4B50-4373-AAB0-5449E26B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F6DB-B31F-4E80-921C-D5799BC1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04C6-3C9F-4F1F-8F20-3D6E4469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DB69-36AA-40DB-A8D1-BE0BA6066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E441-FFB4-482E-AEBD-6DD47454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F1D7-8060-4E36-A07D-A18805168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53863-FE09-433C-85AE-F608D5E83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97B0E-4FAD-4B87-8D70-360FF08C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427E1-6F94-4D68-ACAE-042ACDDD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9A8F5-EA7E-474E-8FDE-E95740DF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4862B-98C4-47C9-B27B-7B87921A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77AAD-1801-4E3A-BBA7-11A8FB5B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A61F6-F34C-4A0E-B890-CC73846A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7ACAC-A885-4354-B916-8FDED2CC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3CA34-62F0-48A7-B719-D059B726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44BB-7492-4DF0-871E-EEE96C91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85138-8FB5-47EB-95E6-C2225DF8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BDABD-36E0-4E1D-8A93-E6BE5C405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3882D-E67B-44DD-97B9-AD5A58B0D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7F0FF-4539-4359-B494-8156593EF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654BE-61A6-43DE-AA0D-0028FA6D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EF5D1-3195-4292-94B1-420280E1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09F20-CA09-431C-B288-789DEB90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A970A-9D05-4FAB-B2F5-B52980D1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D265B-378E-4DC9-98B5-A3E7AD10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68C29-6B9F-439D-9B88-3EDB8096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3700-E086-449C-944D-442C495D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E1D3E-433B-46BC-BF1B-ED73B052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C9EFF-0861-48AB-BC67-74DE5009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5C026-2196-4BF6-B491-5CCEB57F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8E192-8CD4-4E05-A0B8-D2A027D6D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64223-E1D1-49F1-B620-3A5647FF7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AB345-E449-46F9-986B-2D47FBECB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A728A-99A1-4A66-8F34-3143EE6D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343B3-186C-4912-9CA9-BF8C8D9C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D7543-3222-4100-8CC3-7482BD56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4DFD2-C7FB-4894-8C37-0A6A1629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202E-EA67-403A-8AF8-78E82629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8B199-D2EF-426C-B0FE-A17204B4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C3AC2-0372-4408-B43E-9A7E70D0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22D64-3C57-4357-920C-E1CA5B6A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69B13-2EBD-43A3-BB58-D3A7338B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26DEC-626C-4F4D-B5C5-E4E0025B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00C7E-E4CD-44A4-9FFF-676D0C0BB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4BD69-7737-4EE5-BB56-E38AB603A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0D930-996B-4EB4-A96C-2593BE450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F4DE3-3A01-4DFA-84C8-7A791CBA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62BE4-C3FC-4116-9D45-A39B09DD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4644-9790-4532-B5EA-1B1FBBCC255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0B2E-0A63-4B95-9B87-CE5AB8A4570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6326-F281-42B6-B86D-1EAC5044901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A08F-3CA5-433F-A515-04BDD039E20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C413-F5CF-475B-B90E-B4074A3E8D4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5E9C-DF1A-4A1B-A9FA-C3200ACA284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1A6E-F2F4-4366-A2BF-06A9F88CFEB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57F2-9742-4CC8-B599-2DDA82D1F24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0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751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3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754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9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760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3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764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9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770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6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777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1" name="PlaceHolder 1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F7AB-0B24-44DD-9BD2-38A4942A501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1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22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4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825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0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831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4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835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0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841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7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848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2" name="PlaceHolder 1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B126-85CF-4D46-82BE-6CD6BB1A145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2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93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5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896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1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02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5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906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1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912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8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919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3" name="PlaceHolder 1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B2F1-12D1-45A8-B5C7-87A199F8DAC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3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964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6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67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2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73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6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977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2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983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9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990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4" name="PlaceHolder 1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E667-17A5-4F9A-B34A-69015F16559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4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035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7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038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3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044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7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048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3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054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0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061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5" name="PlaceHolder 1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2CA2-B99A-4C39-904A-AF768FD22C3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5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106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8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109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4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115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8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119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4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125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31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32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6" name="PlaceHolder 1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0123-CD23-455F-B9F0-3C47237626A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6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177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9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180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5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186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9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190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5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196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2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203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7" name="PlaceHolder 1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5FC8-263E-4D6B-B009-081924143E6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7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248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0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251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6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257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0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261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6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267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3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274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8" name="PlaceHolder 1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C17D-4100-4529-9694-A6732615115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8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319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1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322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7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328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1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332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7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338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4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345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9" name="PlaceHolder 1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4120-4AE7-462D-A016-F412D9E3189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9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390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2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393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8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399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2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403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8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409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5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416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0" name="PlaceHolder 1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6337-DDDD-421D-9FD2-FB1E646806A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0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461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3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464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9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470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3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474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9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480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6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487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1" name="PlaceHolder 1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9650-35D1-428E-9318-1CF71927F1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7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0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6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00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06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3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2ACE-E79A-43C1-8F68-36935C04CEE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0086-6AF4-4432-BBAA-DBA3DE4F205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92CF-5E1F-4ACD-AB86-334C96B3EE3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1CA7-B8A1-4A40-A024-F09737AA1A7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30D4-2069-4109-99BD-8BA59F3BF72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mp.wav"/><Relationship Id="rId3" Type="http://schemas.openxmlformats.org/officeDocument/2006/relationships/audio" Target="../media/chomp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audio" Target="../media/buzzer.wav"/><Relationship Id="rId9" Type="http://schemas.openxmlformats.org/officeDocument/2006/relationships/audio" Target="../media/buzzer.wav"/><Relationship Id="rId10" Type="http://schemas.openxmlformats.org/officeDocument/2006/relationships/audio" Target="../media/buzzer.wav"/><Relationship Id="rId11" Type="http://schemas.openxmlformats.org/officeDocument/2006/relationships/audio" Target="../media/buzzer.wav"/><Relationship Id="rId12" Type="http://schemas.openxmlformats.org/officeDocument/2006/relationships/audio" Target="../media/buzzer.wav"/><Relationship Id="rId13" Type="http://schemas.openxmlformats.org/officeDocument/2006/relationships/audio" Target="../media/buzzer.wav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4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mp.wav"/><Relationship Id="rId3" Type="http://schemas.openxmlformats.org/officeDocument/2006/relationships/audio" Target="../media/chomp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audio" Target="../media/catgrowl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audio" Target="../media/elephant.wav"/><Relationship Id="rId5" Type="http://schemas.openxmlformats.org/officeDocument/2006/relationships/audio" Target="../media/elephant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TextBox 6"/>
          <p:cNvSpPr/>
          <p:nvPr/>
        </p:nvSpPr>
        <p:spPr>
          <a:xfrm>
            <a:off x="6400800" y="3886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TextBox 7"/>
          <p:cNvSpPr/>
          <p:nvPr/>
        </p:nvSpPr>
        <p:spPr>
          <a:xfrm>
            <a:off x="6400800" y="4419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9" name="Picture 5" descr="gorilla.jpg"/>
          <p:cNvPicPr/>
          <p:nvPr/>
        </p:nvPicPr>
        <p:blipFill>
          <a:blip r:embed="rId1"/>
          <a:srcRect l="17465" t="0" r="0" b="0"/>
          <a:stretch/>
        </p:blipFill>
        <p:spPr>
          <a:xfrm>
            <a:off x="0" y="12952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1540" name="Rounded Rectangular Callout 4"/>
          <p:cNvSpPr/>
          <p:nvPr/>
        </p:nvSpPr>
        <p:spPr>
          <a:xfrm>
            <a:off x="5105520" y="3048120"/>
            <a:ext cx="3352680" cy="2666880"/>
          </a:xfrm>
          <a:prstGeom prst="wedgeRoundRectCallout">
            <a:avLst>
              <a:gd name="adj1" fmla="val -101467"/>
              <a:gd name="adj2" fmla="val 878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is brought to you by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Grammar Byte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©2014 by Robin L. Simm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3" name="Picture 10" descr="shrimp.jpg"/>
          <p:cNvPicPr/>
          <p:nvPr/>
        </p:nvPicPr>
        <p:blipFill>
          <a:blip r:embed="rId1"/>
          <a:stretch/>
        </p:blipFill>
        <p:spPr>
          <a:xfrm>
            <a:off x="6400800" y="5410080"/>
            <a:ext cx="1285920" cy="1204920"/>
          </a:xfrm>
          <a:prstGeom prst="rect">
            <a:avLst/>
          </a:prstGeom>
          <a:ln w="0">
            <a:noFill/>
          </a:ln>
        </p:spPr>
      </p:pic>
      <p:pic>
        <p:nvPicPr>
          <p:cNvPr id="1574" name="Picture 9" descr="steak.jpg"/>
          <p:cNvPicPr/>
          <p:nvPr/>
        </p:nvPicPr>
        <p:blipFill>
          <a:blip r:embed="rId2"/>
          <a:stretch/>
        </p:blipFill>
        <p:spPr>
          <a:xfrm>
            <a:off x="5410080" y="4267080"/>
            <a:ext cx="1330560" cy="1016280"/>
          </a:xfrm>
          <a:prstGeom prst="rect">
            <a:avLst/>
          </a:prstGeom>
          <a:ln w="0">
            <a:noFill/>
          </a:ln>
        </p:spPr>
      </p:pic>
      <p:pic>
        <p:nvPicPr>
          <p:cNvPr id="1575" name="Picture 6" descr="ribs.jpg"/>
          <p:cNvPicPr/>
          <p:nvPr/>
        </p:nvPicPr>
        <p:blipFill>
          <a:blip r:embed="rId3"/>
          <a:stretch/>
        </p:blipFill>
        <p:spPr>
          <a:xfrm>
            <a:off x="1380960" y="5562720"/>
            <a:ext cx="1381320" cy="990360"/>
          </a:xfrm>
          <a:prstGeom prst="rect">
            <a:avLst/>
          </a:prstGeom>
          <a:ln w="0">
            <a:noFill/>
          </a:ln>
        </p:spPr>
      </p:pic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21004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 this situation, no matter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how many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ingular nouns you join with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, the subject is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still</a:t>
            </a:r>
            <a:r>
              <a:rPr b="0" lang="en-US" sz="2800" spc="-1" strike="noStrike">
                <a:solidFill>
                  <a:srgbClr val="c0504d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ingular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 type="subTitle"/>
          </p:nvPr>
        </p:nvSpPr>
        <p:spPr>
          <a:xfrm>
            <a:off x="457200" y="2514600"/>
            <a:ext cx="8153280" cy="13716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Every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hicken wing, pork rib, slice of pepperoni pizza, hotdog, hamburger, steak, 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ried shrimp 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sits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touched on Ruth’s plat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78" name="Picture 3" descr="vegetarian.jpg"/>
          <p:cNvPicPr/>
          <p:nvPr/>
        </p:nvPicPr>
        <p:blipFill>
          <a:blip r:embed="rId4"/>
          <a:stretch/>
        </p:blipFill>
        <p:spPr>
          <a:xfrm>
            <a:off x="3733920" y="4038480"/>
            <a:ext cx="1536480" cy="2819520"/>
          </a:xfrm>
          <a:prstGeom prst="rect">
            <a:avLst/>
          </a:prstGeom>
          <a:ln w="0">
            <a:noFill/>
          </a:ln>
        </p:spPr>
      </p:pic>
      <p:pic>
        <p:nvPicPr>
          <p:cNvPr id="1579" name="Picture 5" descr="wings.jpg"/>
          <p:cNvPicPr/>
          <p:nvPr/>
        </p:nvPicPr>
        <p:blipFill>
          <a:blip r:embed="rId5"/>
          <a:stretch/>
        </p:blipFill>
        <p:spPr>
          <a:xfrm>
            <a:off x="441360" y="4191120"/>
            <a:ext cx="1219320" cy="1143000"/>
          </a:xfrm>
          <a:prstGeom prst="rect">
            <a:avLst/>
          </a:prstGeom>
          <a:ln w="0">
            <a:noFill/>
          </a:ln>
        </p:spPr>
      </p:pic>
      <p:pic>
        <p:nvPicPr>
          <p:cNvPr id="1580" name="Picture 7" descr="pizza.jpg"/>
          <p:cNvPicPr/>
          <p:nvPr/>
        </p:nvPicPr>
        <p:blipFill>
          <a:blip r:embed="rId6"/>
          <a:stretch/>
        </p:blipFill>
        <p:spPr>
          <a:xfrm>
            <a:off x="2286000" y="4343400"/>
            <a:ext cx="1238400" cy="888840"/>
          </a:xfrm>
          <a:prstGeom prst="rect">
            <a:avLst/>
          </a:prstGeom>
          <a:ln w="0">
            <a:noFill/>
          </a:ln>
        </p:spPr>
      </p:pic>
      <p:pic>
        <p:nvPicPr>
          <p:cNvPr id="1581" name="Picture 8" descr="hotdog.jpg"/>
          <p:cNvPicPr/>
          <p:nvPr/>
        </p:nvPicPr>
        <p:blipFill>
          <a:blip r:embed="rId7"/>
          <a:stretch/>
        </p:blipFill>
        <p:spPr>
          <a:xfrm>
            <a:off x="7315200" y="4267080"/>
            <a:ext cx="1341360" cy="990720"/>
          </a:xfrm>
          <a:prstGeom prst="rect">
            <a:avLst/>
          </a:prstGeom>
          <a:ln w="0">
            <a:noFill/>
          </a:ln>
        </p:spPr>
      </p:pic>
      <p:sp>
        <p:nvSpPr>
          <p:cNvPr id="1582" name="TextBox 12"/>
          <p:cNvSpPr/>
          <p:nvPr/>
        </p:nvSpPr>
        <p:spPr>
          <a:xfrm>
            <a:off x="304920" y="4267080"/>
            <a:ext cx="1447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00000"/>
                </a:solidFill>
                <a:latin typeface="Arial Black"/>
              </a:rPr>
              <a:t>X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TextBox 13"/>
          <p:cNvSpPr/>
          <p:nvPr/>
        </p:nvSpPr>
        <p:spPr>
          <a:xfrm>
            <a:off x="1371600" y="563868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00000"/>
                </a:solidFill>
                <a:latin typeface="Arial Black"/>
              </a:rPr>
              <a:t>X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TextBox 14"/>
          <p:cNvSpPr/>
          <p:nvPr/>
        </p:nvSpPr>
        <p:spPr>
          <a:xfrm>
            <a:off x="2209680" y="434340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00000"/>
                </a:solidFill>
                <a:latin typeface="Arial Black"/>
              </a:rPr>
              <a:t>X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TextBox 15"/>
          <p:cNvSpPr/>
          <p:nvPr/>
        </p:nvSpPr>
        <p:spPr>
          <a:xfrm>
            <a:off x="7238880" y="426708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00000"/>
                </a:solidFill>
                <a:latin typeface="Arial Black"/>
              </a:rPr>
              <a:t>X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TextBox 16"/>
          <p:cNvSpPr/>
          <p:nvPr/>
        </p:nvSpPr>
        <p:spPr>
          <a:xfrm>
            <a:off x="5334120" y="4343400"/>
            <a:ext cx="1447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00000"/>
                </a:solidFill>
                <a:latin typeface="Arial Black"/>
              </a:rPr>
              <a:t>X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TextBox 17"/>
          <p:cNvSpPr/>
          <p:nvPr/>
        </p:nvSpPr>
        <p:spPr>
          <a:xfrm>
            <a:off x="6324480" y="548640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00000"/>
                </a:solidFill>
                <a:latin typeface="Arial Black"/>
              </a:rPr>
              <a:t>X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" name="Rounded Rectangular Callout 4"/>
          <p:cNvSpPr/>
          <p:nvPr/>
        </p:nvSpPr>
        <p:spPr>
          <a:xfrm>
            <a:off x="5867280" y="4343400"/>
            <a:ext cx="2438640" cy="1447920"/>
          </a:xfrm>
          <a:prstGeom prst="wedgeRoundRectCallout">
            <a:avLst>
              <a:gd name="adj1" fmla="val -100300"/>
              <a:gd name="adj2" fmla="val -4190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’m a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vegetaria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4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uzz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91" dur="2000" fill="hold"/>
                                        <p:tgtEl>
                                          <p:spTgt spid="15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7" dur="2000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uzz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03" dur="2000" fill="hold"/>
                                        <p:tgtEl>
                                          <p:spTgt spid="15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" dur="20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uzz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15" dur="2000" fill="hold"/>
                                        <p:tgtEl>
                                          <p:spTgt spid="15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1" dur="20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uzz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27" dur="2000" fill="hold"/>
                                        <p:tgtEl>
                                          <p:spTgt spid="15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3" dur="2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3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uzz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39" dur="2000" fill="hold"/>
                                        <p:tgtEl>
                                          <p:spTgt spid="15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5" dur="20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uzz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51" dur="2000" fill="hold"/>
                                        <p:tgtEl>
                                          <p:spTgt spid="15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se caution with these three conjunctions: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either … or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neither … nor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, and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not only … but also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0" name="Text Box 1038"/>
          <p:cNvSpPr/>
          <p:nvPr/>
        </p:nvSpPr>
        <p:spPr>
          <a:xfrm>
            <a:off x="1143000" y="2438280"/>
            <a:ext cx="6858000" cy="1600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only the employees but als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 boss wish the shift would e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Text Box 1038"/>
          <p:cNvSpPr/>
          <p:nvPr/>
        </p:nvSpPr>
        <p:spPr>
          <a:xfrm>
            <a:off x="1143000" y="2438280"/>
            <a:ext cx="6858000" cy="1600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only the employees but als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 bos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wishe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hift would e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2" name="Text Box 1037"/>
          <p:cNvSpPr/>
          <p:nvPr/>
        </p:nvSpPr>
        <p:spPr>
          <a:xfrm>
            <a:off x="1143000" y="2438280"/>
            <a:ext cx="6858000" cy="1447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only the boss but also her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employe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wish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hift would e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3" name="Picture 7" descr="twohands.jpg"/>
          <p:cNvPicPr/>
          <p:nvPr/>
        </p:nvPicPr>
        <p:blipFill>
          <a:blip r:embed="rId1"/>
          <a:stretch/>
        </p:blipFill>
        <p:spPr>
          <a:xfrm>
            <a:off x="6189840" y="3429000"/>
            <a:ext cx="1906560" cy="3276720"/>
          </a:xfrm>
          <a:prstGeom prst="rect">
            <a:avLst/>
          </a:prstGeom>
          <a:ln w="0">
            <a:noFill/>
          </a:ln>
        </p:spPr>
      </p:pic>
      <p:sp>
        <p:nvSpPr>
          <p:cNvPr id="1594" name="Rounded Rectangular Callout 6"/>
          <p:cNvSpPr/>
          <p:nvPr/>
        </p:nvSpPr>
        <p:spPr>
          <a:xfrm>
            <a:off x="762120" y="4800600"/>
            <a:ext cx="4495680" cy="1752480"/>
          </a:xfrm>
          <a:prstGeom prst="wedgeRoundRectCallout">
            <a:avLst>
              <a:gd name="adj1" fmla="val 81087"/>
              <a:gd name="adj2" fmla="val -73175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’ll hav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tw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bjects, but only th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clos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is cas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boss</a:t>
            </a:r>
            <a:r>
              <a:rPr b="0" i="1" lang="en-US" sz="8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count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Rounded Rectangular Callout 9"/>
          <p:cNvSpPr/>
          <p:nvPr/>
        </p:nvSpPr>
        <p:spPr>
          <a:xfrm>
            <a:off x="762120" y="4800600"/>
            <a:ext cx="4495680" cy="1752480"/>
          </a:xfrm>
          <a:prstGeom prst="wedgeRoundRectCallout">
            <a:avLst>
              <a:gd name="adj1" fmla="val 81087"/>
              <a:gd name="adj2" fmla="val -73175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you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fli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two subjects, so that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employe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next to the verb, then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wis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ll work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6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3851"/>
                            </p:stCondLst>
                            <p:childTnLst>
                              <p:par>
                                <p:cTn id="2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4351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21636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se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indefinite pronouns</a:t>
            </a:r>
            <a:r>
              <a:rPr b="0" lang="en-US" sz="32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re always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ingular</a:t>
            </a:r>
            <a:r>
              <a:rPr b="0" i="1" lang="en-US" sz="3200" spc="-1" strike="noStrike">
                <a:solidFill>
                  <a:srgbClr val="c0504d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[even when they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eem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plural]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609480" y="2895120"/>
            <a:ext cx="7925040" cy="31244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rmAutofit/>
          </a:bodyPr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ach, either, neith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yone, anybody, anything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veryone, everybody, everyth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one, nobody, noth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meone, somebody, someth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8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761"/>
                            </p:stCondLst>
                            <p:childTnLst>
                              <p:par>
                                <p:cTn id="30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3302"/>
                            </p:stCondLst>
                            <p:childTnLst>
                              <p:par>
                                <p:cTn id="30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263"/>
                            </p:stCondLst>
                            <p:childTnLst>
                              <p:par>
                                <p:cTn id="31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6594"/>
                            </p:stCondLst>
                            <p:childTnLst>
                              <p:par>
                                <p:cTn id="3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8" name="Picture 3" descr="worldgirl.jpg"/>
          <p:cNvPicPr/>
          <p:nvPr/>
        </p:nvPicPr>
        <p:blipFill>
          <a:blip r:embed="rId1"/>
          <a:stretch/>
        </p:blipFill>
        <p:spPr>
          <a:xfrm>
            <a:off x="6781680" y="76320"/>
            <a:ext cx="2251080" cy="3047760"/>
          </a:xfrm>
          <a:prstGeom prst="rect">
            <a:avLst/>
          </a:prstGeom>
          <a:ln w="0">
            <a:noFill/>
          </a:ln>
        </p:spPr>
      </p:pic>
      <p:pic>
        <p:nvPicPr>
          <p:cNvPr id="1599" name="Picture 3" descr="earth.jpg"/>
          <p:cNvPicPr/>
          <p:nvPr/>
        </p:nvPicPr>
        <p:blipFill>
          <a:blip r:embed="rId2"/>
          <a:stretch/>
        </p:blipFill>
        <p:spPr>
          <a:xfrm>
            <a:off x="2133720" y="1619280"/>
            <a:ext cx="4876560" cy="4705200"/>
          </a:xfrm>
          <a:prstGeom prst="rect">
            <a:avLst/>
          </a:prstGeom>
          <a:ln w="0">
            <a:noFill/>
          </a:ln>
        </p:spPr>
      </p:pic>
      <p:sp>
        <p:nvSpPr>
          <p:cNvPr id="1600" name="Rounded Rectangular Callout 4"/>
          <p:cNvSpPr/>
          <p:nvPr/>
        </p:nvSpPr>
        <p:spPr>
          <a:xfrm>
            <a:off x="685800" y="304920"/>
            <a:ext cx="3352680" cy="2286000"/>
          </a:xfrm>
          <a:prstGeom prst="wedgeRoundRectCallout">
            <a:avLst>
              <a:gd name="adj1" fmla="val 124740"/>
              <a:gd name="adj2" fmla="val -3054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Everyo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 Earth =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more th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e person—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bill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people, in fac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word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every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however, is still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singul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5" dur="20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Rectangle 3"/>
          <p:cNvSpPr/>
          <p:nvPr/>
        </p:nvSpPr>
        <p:spPr>
          <a:xfrm>
            <a:off x="1295280" y="3276720"/>
            <a:ext cx="6553440" cy="1295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t">
            <a:noAutofit/>
          </a:bodyPr>
          <a:p>
            <a:pPr marL="351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quirrel as well as the pigeons keep an eye on Sammy, the sneaky c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Beware interrupting phrases.</a:t>
            </a:r>
            <a:endParaRPr b="1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838080" y="1599840"/>
            <a:ext cx="32767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s well 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long wit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gether wit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4" name=""/>
          <p:cNvSpPr txBox="1"/>
          <p:nvPr/>
        </p:nvSpPr>
        <p:spPr>
          <a:xfrm>
            <a:off x="5257440" y="1599840"/>
            <a:ext cx="3048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clud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 addition to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speciall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05" name="Picture 12" descr="squirrel.jpg"/>
          <p:cNvPicPr/>
          <p:nvPr/>
        </p:nvPicPr>
        <p:blipFill>
          <a:blip r:embed="rId1"/>
          <a:stretch/>
        </p:blipFill>
        <p:spPr>
          <a:xfrm>
            <a:off x="457200" y="4800600"/>
            <a:ext cx="1293840" cy="2057400"/>
          </a:xfrm>
          <a:prstGeom prst="rect">
            <a:avLst/>
          </a:prstGeom>
          <a:ln w="0">
            <a:noFill/>
          </a:ln>
        </p:spPr>
      </p:pic>
      <p:sp>
        <p:nvSpPr>
          <p:cNvPr id="1606" name="Rounded Rectangular Callout 13"/>
          <p:cNvSpPr/>
          <p:nvPr/>
        </p:nvSpPr>
        <p:spPr>
          <a:xfrm>
            <a:off x="2209680" y="5334120"/>
            <a:ext cx="1371600" cy="1066680"/>
          </a:xfrm>
          <a:prstGeom prst="wedgeRoundRectCallout">
            <a:avLst>
              <a:gd name="adj1" fmla="val -84310"/>
              <a:gd name="adj2" fmla="val -3985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kitt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7" name="Picture 9" descr="point.jpg"/>
          <p:cNvPicPr/>
          <p:nvPr/>
        </p:nvPicPr>
        <p:blipFill>
          <a:blip r:embed="rId2"/>
          <a:stretch/>
        </p:blipFill>
        <p:spPr>
          <a:xfrm>
            <a:off x="8005680" y="2666880"/>
            <a:ext cx="1138320" cy="4191120"/>
          </a:xfrm>
          <a:prstGeom prst="rect">
            <a:avLst/>
          </a:prstGeom>
          <a:ln w="0">
            <a:noFill/>
          </a:ln>
        </p:spPr>
      </p:pic>
      <p:pic>
        <p:nvPicPr>
          <p:cNvPr id="1608" name="Rectangle 3" descr=""/>
          <p:cNvPicPr/>
          <p:nvPr/>
        </p:nvPicPr>
        <p:blipFill>
          <a:blip r:embed="rId3"/>
          <a:stretch/>
        </p:blipFill>
        <p:spPr>
          <a:xfrm>
            <a:off x="1298520" y="3279600"/>
            <a:ext cx="6607080" cy="1292400"/>
          </a:xfrm>
          <a:prstGeom prst="rect">
            <a:avLst/>
          </a:prstGeom>
          <a:ln w="0">
            <a:noFill/>
          </a:ln>
        </p:spPr>
      </p:pic>
      <p:pic>
        <p:nvPicPr>
          <p:cNvPr id="1609" name="Rectangle 3" descr=""/>
          <p:cNvPicPr/>
          <p:nvPr/>
        </p:nvPicPr>
        <p:blipFill>
          <a:blip r:embed="rId4"/>
          <a:stretch/>
        </p:blipFill>
        <p:spPr>
          <a:xfrm>
            <a:off x="1298520" y="3279600"/>
            <a:ext cx="6553080" cy="1292400"/>
          </a:xfrm>
          <a:prstGeom prst="rect">
            <a:avLst/>
          </a:prstGeom>
          <a:ln w="0">
            <a:noFill/>
          </a:ln>
        </p:spPr>
      </p:pic>
      <p:sp>
        <p:nvSpPr>
          <p:cNvPr id="1610" name="Rounded Rectangular Callout 6"/>
          <p:cNvSpPr/>
          <p:nvPr/>
        </p:nvSpPr>
        <p:spPr>
          <a:xfrm>
            <a:off x="4495680" y="5105520"/>
            <a:ext cx="3353040" cy="1523880"/>
          </a:xfrm>
          <a:prstGeom prst="wedgeRoundRectCallout">
            <a:avLst>
              <a:gd name="adj1" fmla="val 54384"/>
              <a:gd name="adj2" fmla="val -11731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entence might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sou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, but it is completely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wron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0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1" name="Picture 11" descr="okay.jpg"/>
          <p:cNvPicPr/>
          <p:nvPr/>
        </p:nvPicPr>
        <p:blipFill>
          <a:blip r:embed="rId1"/>
          <a:stretch/>
        </p:blipFill>
        <p:spPr>
          <a:xfrm>
            <a:off x="3352680" y="3124080"/>
            <a:ext cx="2122560" cy="3733920"/>
          </a:xfrm>
          <a:prstGeom prst="rect">
            <a:avLst/>
          </a:prstGeom>
          <a:ln w="0">
            <a:noFill/>
          </a:ln>
        </p:spPr>
      </p:pic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0969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Beware inverted word order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3" name="Rectangle 4"/>
          <p:cNvSpPr/>
          <p:nvPr/>
        </p:nvSpPr>
        <p:spPr>
          <a:xfrm>
            <a:off x="533520" y="1523880"/>
            <a:ext cx="8076960" cy="1600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marL="351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 is the onions you need for the chili. In the refrigerator is the jalapeño peppers you might want to ad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Rounded Rectangular Callout 8"/>
          <p:cNvSpPr/>
          <p:nvPr/>
        </p:nvSpPr>
        <p:spPr>
          <a:xfrm>
            <a:off x="5791320" y="3962520"/>
            <a:ext cx="2971800" cy="2057400"/>
          </a:xfrm>
          <a:prstGeom prst="wedgeRoundRectCallout">
            <a:avLst>
              <a:gd name="adj1" fmla="val -83041"/>
              <a:gd name="adj2" fmla="val -3373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 through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prepositional phras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find th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re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Rounded Rectangular Callout 9"/>
          <p:cNvSpPr/>
          <p:nvPr/>
        </p:nvSpPr>
        <p:spPr>
          <a:xfrm>
            <a:off x="304920" y="4114800"/>
            <a:ext cx="2209680" cy="1828800"/>
          </a:xfrm>
          <a:prstGeom prst="wedgeRoundRectCallout">
            <a:avLst>
              <a:gd name="adj1" fmla="val 86490"/>
              <a:gd name="adj2" fmla="val -3477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the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nev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bje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6" name="Rectangle 4" descr=""/>
          <p:cNvPicPr/>
          <p:nvPr/>
        </p:nvPicPr>
        <p:blipFill>
          <a:blip r:embed="rId2"/>
          <a:stretch/>
        </p:blipFill>
        <p:spPr>
          <a:xfrm>
            <a:off x="536400" y="1523880"/>
            <a:ext cx="8077320" cy="1627200"/>
          </a:xfrm>
          <a:prstGeom prst="rect">
            <a:avLst/>
          </a:prstGeom>
          <a:ln w="0">
            <a:noFill/>
          </a:ln>
        </p:spPr>
      </p:pic>
      <p:pic>
        <p:nvPicPr>
          <p:cNvPr id="1617" name="Rectangle 4" descr=""/>
          <p:cNvPicPr/>
          <p:nvPr/>
        </p:nvPicPr>
        <p:blipFill>
          <a:blip r:embed="rId3"/>
          <a:stretch/>
        </p:blipFill>
        <p:spPr>
          <a:xfrm>
            <a:off x="536400" y="1523880"/>
            <a:ext cx="807732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9" dur="5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Quick Tes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9" name="TextBox 4"/>
          <p:cNvSpPr/>
          <p:nvPr/>
        </p:nvSpPr>
        <p:spPr>
          <a:xfrm>
            <a:off x="762120" y="1676520"/>
            <a:ext cx="76197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Direction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items that follow, choose the option that corrects an error in the underlined portion(s). If no error exists, choose “No change is necessary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0" name="Picture 7" descr="urbangirl.jpg"/>
          <p:cNvPicPr/>
          <p:nvPr/>
        </p:nvPicPr>
        <p:blipFill>
          <a:blip r:embed="rId1"/>
          <a:stretch/>
        </p:blipFill>
        <p:spPr>
          <a:xfrm>
            <a:off x="6248520" y="3581280"/>
            <a:ext cx="1744560" cy="3124440"/>
          </a:xfrm>
          <a:prstGeom prst="rect">
            <a:avLst/>
          </a:prstGeom>
          <a:ln w="0">
            <a:noFill/>
          </a:ln>
        </p:spPr>
      </p:pic>
      <p:sp>
        <p:nvSpPr>
          <p:cNvPr id="1621" name="Rounded Rectangular Callout 6"/>
          <p:cNvSpPr/>
          <p:nvPr/>
        </p:nvSpPr>
        <p:spPr>
          <a:xfrm>
            <a:off x="2514600" y="4495680"/>
            <a:ext cx="2133720" cy="1752840"/>
          </a:xfrm>
          <a:prstGeom prst="wedgeRoundRectCallout">
            <a:avLst>
              <a:gd name="adj1" fmla="val 146777"/>
              <a:gd name="adj2" fmla="val -3466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w me what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you kn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2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9451"/>
                            </p:stCondLst>
                            <p:childTnLst>
                              <p:par>
                                <p:cTn id="4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9951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3" name="TextBox 3"/>
          <p:cNvSpPr/>
          <p:nvPr/>
        </p:nvSpPr>
        <p:spPr>
          <a:xfrm>
            <a:off x="380880" y="1676520"/>
            <a:ext cx="83822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 the cabinet is the tools that you will need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clog the bathroom sink; I have found that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unger and a prayer often do the tri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TextBox 7"/>
          <p:cNvSpPr/>
          <p:nvPr/>
        </p:nvSpPr>
        <p:spPr>
          <a:xfrm>
            <a:off x="380880" y="1676520"/>
            <a:ext cx="8382240" cy="48765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 the cabine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tools that you will need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clog the bathroom sink; I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ound that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unger and a prayer ofte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d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tri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TextBox 8"/>
          <p:cNvSpPr/>
          <p:nvPr/>
        </p:nvSpPr>
        <p:spPr>
          <a:xfrm>
            <a:off x="380880" y="1676520"/>
            <a:ext cx="8382240" cy="48765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 the cabinet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tools that you will need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clog the bathroom sink; I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ound that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unger and a prayer ofte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d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tri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1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2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7" name="TextBox 3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e are the books that Thomas and Darlene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ed for their research, and here is the earplug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at you’ll require once they both doze off 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redom and start snor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z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TextBox 8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books that Thomas and Darlen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ed for their research, and her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earplug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at you’ll require once they both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doz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ff 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redom and start snor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z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TextBox 9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books that Thomas and Darlen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ed for their research, and her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earplug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at you’ll require once they both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doz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ff 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redom and start snor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z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0" dur="5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3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1" name="TextBox 3"/>
          <p:cNvSpPr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asmine and Rodney have decided to double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umber of cupcakes that they are baking si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love moist cake and chocolate fros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TextBox 7"/>
          <p:cNvSpPr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asmine and Rodne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decided to double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umber of cupcakes that the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aking si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lo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oist cake and chocolate fros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TextBox 8"/>
          <p:cNvSpPr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asmine and Rodne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decided to double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umber of cupcakes that the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aking si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lov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oist cake and chocolate fros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lo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9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1" name="Picture 5" descr="dunno.jpg"/>
          <p:cNvPicPr/>
          <p:nvPr/>
        </p:nvPicPr>
        <p:blipFill>
          <a:blip r:embed="rId1"/>
          <a:stretch/>
        </p:blipFill>
        <p:spPr>
          <a:xfrm>
            <a:off x="2209680" y="2133720"/>
            <a:ext cx="4392720" cy="4425840"/>
          </a:xfrm>
          <a:prstGeom prst="rect">
            <a:avLst/>
          </a:prstGeom>
          <a:ln w="0">
            <a:noFill/>
          </a:ln>
        </p:spPr>
      </p:pic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14698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ubject-Verb Agreement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3" name="Rounded Rectangular Callout 7"/>
          <p:cNvSpPr/>
          <p:nvPr/>
        </p:nvSpPr>
        <p:spPr>
          <a:xfrm>
            <a:off x="304920" y="2209680"/>
            <a:ext cx="2286000" cy="1905120"/>
          </a:xfrm>
          <a:prstGeom prst="wedgeRoundRectCallout">
            <a:avLst>
              <a:gd name="adj1" fmla="val 130208"/>
              <a:gd name="adj2" fmla="val 968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 I need an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t the end of the verb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Rounded Rectangular Callout 8"/>
          <p:cNvSpPr/>
          <p:nvPr/>
        </p:nvSpPr>
        <p:spPr>
          <a:xfrm>
            <a:off x="6553080" y="2209680"/>
            <a:ext cx="2286000" cy="1752840"/>
          </a:xfrm>
          <a:prstGeom prst="wedgeRoundRectCallout">
            <a:avLst>
              <a:gd name="adj1" fmla="val -116722"/>
              <a:gd name="adj2" fmla="val 1552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 should I leave th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f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701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4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5" name="TextBox 3"/>
          <p:cNvSpPr/>
          <p:nvPr/>
        </p:nvSpPr>
        <p:spPr>
          <a:xfrm>
            <a:off x="380880" y="160020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only those students but also their professor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ok forward to the final exam; everyone h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citing vacation plans that start next Mon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TextBox 7"/>
          <p:cNvSpPr/>
          <p:nvPr/>
        </p:nvSpPr>
        <p:spPr>
          <a:xfrm>
            <a:off x="380880" y="160020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only those students but also their professor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loo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orward to the final exam; everyon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citing vacation plans tha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ta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next Mon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TextBox 8"/>
          <p:cNvSpPr/>
          <p:nvPr/>
        </p:nvSpPr>
        <p:spPr>
          <a:xfrm>
            <a:off x="380880" y="160020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only those students but also their professor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look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orward to the final exam; everyon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citing vacation plans tha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ta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next Mon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l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8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5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9" name="TextBox 3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t the pet store, each iguana, mouse, and gerbil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y to climb the walls of its glass cage whi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umans hover outside like giant predators who 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ady to stri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TextBox 8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t the pet store, each iguana, mouse, and gerbil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r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climb the walls of its glass cage whi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uman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ov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utside like giant predators who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ady to stri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TextBox 9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t the pet store, each iguana, mouse, and gerbil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tri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climb the walls of its glass cage whi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uman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ov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utside like giant predators who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ady to stri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7" dur="5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6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3" name="TextBox 3"/>
          <p:cNvSpPr/>
          <p:nvPr/>
        </p:nvSpPr>
        <p:spPr>
          <a:xfrm>
            <a:off x="380880" y="1523880"/>
            <a:ext cx="83822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yrone, as well as his cousins, hope that Grandm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ngs her famous brownies and peach pie that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ip with generous scoops of vanilla ice crea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TextBox 7"/>
          <p:cNvSpPr/>
          <p:nvPr/>
        </p:nvSpPr>
        <p:spPr>
          <a:xfrm>
            <a:off x="380880" y="1523880"/>
            <a:ext cx="8382240" cy="5029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yrone, as well as his cousins,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op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at Grandm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bring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er famous brownies and peach pie tha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dri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th generous scoops of vanilla ice crea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TextBox 8"/>
          <p:cNvSpPr/>
          <p:nvPr/>
        </p:nvSpPr>
        <p:spPr>
          <a:xfrm>
            <a:off x="380880" y="1523880"/>
            <a:ext cx="8534520" cy="5029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yrone, as well as his cousins,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op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at Grandm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bring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er famous brownies and peach pie tha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dri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th generous scoops of vanilla ice crea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o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7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7" name="TextBox 3"/>
          <p:cNvSpPr/>
          <p:nvPr/>
        </p:nvSpPr>
        <p:spPr>
          <a:xfrm>
            <a:off x="380880" y="152388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ther the dogs or the cat sleep on the bed whi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is out; Lorraine always finds 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dentation in the center of her comfor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l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i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TextBox 8"/>
          <p:cNvSpPr/>
          <p:nvPr/>
        </p:nvSpPr>
        <p:spPr>
          <a:xfrm>
            <a:off x="380880" y="152388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ther the dogs or the ca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lee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n the bed whi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ut; Lorraine alway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fin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dentation in the center of her comfor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l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i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TextBox 9"/>
          <p:cNvSpPr/>
          <p:nvPr/>
        </p:nvSpPr>
        <p:spPr>
          <a:xfrm>
            <a:off x="380880" y="152388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ther the dogs or the cat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sleep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n the bed whi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ut; Lorraine alway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fin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dentation in the center of her comfor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l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i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5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8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1" name="TextBox 3"/>
          <p:cNvSpPr/>
          <p:nvPr/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ryl, together with her friends Beatrice and Lavern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ns a daily trip for ice cream, for these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ve discovered that the calories is worth see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o scoop their servings with his muscular ar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TextBox 6"/>
          <p:cNvSpPr/>
          <p:nvPr/>
        </p:nvSpPr>
        <p:spPr>
          <a:xfrm>
            <a:off x="228600" y="1523880"/>
            <a:ext cx="868680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ryl, together with her friends Beatrice and Lavern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la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daily trip for ice cream, for these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discovered that the calorie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orth see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o scoop their servings with his muscular ar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TextBox 9"/>
          <p:cNvSpPr/>
          <p:nvPr/>
        </p:nvSpPr>
        <p:spPr>
          <a:xfrm>
            <a:off x="228600" y="1523880"/>
            <a:ext cx="868680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ryl, together with her friends Beatrice and Lavern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la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daily trip for ice cream, for these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discovered that the calories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orth see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o scoop their servings with his muscular ar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4" dur="5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9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5" name="TextBox 3"/>
          <p:cNvSpPr/>
          <p:nvPr/>
        </p:nvSpPr>
        <p:spPr>
          <a:xfrm>
            <a:off x="380880" y="160020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cissors are sharp, so neither the cousins n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mmy is allowed to play with them, even when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ys needs to finish a school pro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TextBox 7"/>
          <p:cNvSpPr/>
          <p:nvPr/>
        </p:nvSpPr>
        <p:spPr>
          <a:xfrm>
            <a:off x="380880" y="160020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cissor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harp, so neither the cousins n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mm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llowed to play with them, even when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y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nee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finish a school pro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TextBox 8"/>
          <p:cNvSpPr/>
          <p:nvPr/>
        </p:nvSpPr>
        <p:spPr>
          <a:xfrm>
            <a:off x="380880" y="160020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cissor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harp, so neither the cousins n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mm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llowed to play with them, even when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ys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ne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finish a school pro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3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0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9" name="TextBox 3"/>
          <p:cNvSpPr/>
          <p:nvPr/>
        </p:nvSpPr>
        <p:spPr>
          <a:xfrm>
            <a:off x="380880" y="1676520"/>
            <a:ext cx="83822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ach fork, spoon, and knife are scarred from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posal since Drew refuses to check the dra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fore he throws the swi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f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r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TextBox 7"/>
          <p:cNvSpPr/>
          <p:nvPr/>
        </p:nvSpPr>
        <p:spPr>
          <a:xfrm>
            <a:off x="380880" y="1676520"/>
            <a:ext cx="838224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ach fork, spoon, and knif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carred from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posal since Drew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efu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check the dra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fore 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row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swi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f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r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TextBox 8"/>
          <p:cNvSpPr/>
          <p:nvPr/>
        </p:nvSpPr>
        <p:spPr>
          <a:xfrm>
            <a:off x="380880" y="1676520"/>
            <a:ext cx="838224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ach fork, spoon, and knif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carred from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posal since Drew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efu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check the dra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fore 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row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swi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f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r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2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TextBox 7"/>
          <p:cNvSpPr/>
          <p:nvPr/>
        </p:nvSpPr>
        <p:spPr>
          <a:xfrm>
            <a:off x="5486400" y="2895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3" name="TextBox 6"/>
          <p:cNvSpPr/>
          <p:nvPr/>
        </p:nvSpPr>
        <p:spPr>
          <a:xfrm>
            <a:off x="5486400" y="3429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4" name="Picture 5" descr="gorilla.jpg"/>
          <p:cNvPicPr/>
          <p:nvPr/>
        </p:nvPicPr>
        <p:blipFill>
          <a:blip r:embed="rId1"/>
          <a:srcRect l="17465" t="0" r="0" b="0"/>
          <a:stretch/>
        </p:blipFill>
        <p:spPr>
          <a:xfrm>
            <a:off x="0" y="12952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1665" name="Rounded Rectangular Callout 4"/>
          <p:cNvSpPr/>
          <p:nvPr/>
        </p:nvSpPr>
        <p:spPr>
          <a:xfrm>
            <a:off x="4800600" y="2362320"/>
            <a:ext cx="3962520" cy="2895480"/>
          </a:xfrm>
          <a:prstGeom prst="wedgeRoundRectCallout">
            <a:avLst>
              <a:gd name="adj1" fmla="val -96148"/>
              <a:gd name="adj2" fmla="val 1680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Grammar Byte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ovides additional handouts and exercises on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subject-verb agre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Go to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chompchomp.co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TextBox 3"/>
          <p:cNvSpPr/>
          <p:nvPr/>
        </p:nvSpPr>
        <p:spPr>
          <a:xfrm>
            <a:off x="2286000" y="289548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he End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7" name="Picture 2" descr="squirrel02.jpg"/>
          <p:cNvPicPr/>
          <p:nvPr/>
        </p:nvPicPr>
        <p:blipFill>
          <a:blip r:embed="rId1"/>
          <a:stretch/>
        </p:blipFill>
        <p:spPr>
          <a:xfrm>
            <a:off x="3886200" y="4208400"/>
            <a:ext cx="1522440" cy="2421000"/>
          </a:xfrm>
          <a:prstGeom prst="rect">
            <a:avLst/>
          </a:prstGeom>
          <a:ln w="0">
            <a:noFill/>
          </a:ln>
        </p:spPr>
      </p:pic>
      <p:sp>
        <p:nvSpPr>
          <p:cNvPr id="1668" name="Rounded Rectangular Callout 4"/>
          <p:cNvSpPr/>
          <p:nvPr/>
        </p:nvSpPr>
        <p:spPr>
          <a:xfrm>
            <a:off x="1981080" y="5029200"/>
            <a:ext cx="1371600" cy="1066680"/>
          </a:xfrm>
          <a:prstGeom prst="wedgeRoundRectCallout">
            <a:avLst>
              <a:gd name="adj1" fmla="val 90134"/>
              <a:gd name="adj2" fmla="val -5985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kitt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9" name="Picture 5" descr="cat.jpg"/>
          <p:cNvPicPr/>
          <p:nvPr/>
        </p:nvPicPr>
        <p:blipFill>
          <a:blip r:embed="rId2"/>
          <a:stretch/>
        </p:blipFill>
        <p:spPr>
          <a:xfrm>
            <a:off x="5486400" y="4343400"/>
            <a:ext cx="259092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nodeType="clickEffect" fill="hold">
                      <p:stCondLst>
                        <p:cond delay="0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6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676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2701"/>
                            </p:stCondLst>
                            <p:childTnLst>
                              <p:par>
                                <p:cTn id="679" nodeType="afterEffect" fill="hold" presetClass="exit" presetID="1">
                                  <p:stCondLst>
                                    <p:cond delay="10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3701"/>
                            </p:stCondLst>
                            <p:childTnLst>
                              <p:par>
                                <p:cTn id="68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3" dur="500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4201"/>
                            </p:stCondLst>
                            <p:childTnLst>
                              <p:par>
                                <p:cTn id="6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tgrow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5" name="Picture 4" descr="urbangirl.jpg"/>
          <p:cNvPicPr/>
          <p:nvPr/>
        </p:nvPicPr>
        <p:blipFill>
          <a:blip r:embed="rId1"/>
          <a:stretch/>
        </p:blipFill>
        <p:spPr>
          <a:xfrm>
            <a:off x="5638680" y="838080"/>
            <a:ext cx="2724120" cy="4876920"/>
          </a:xfrm>
          <a:prstGeom prst="rect">
            <a:avLst/>
          </a:prstGeom>
          <a:ln w="0">
            <a:noFill/>
          </a:ln>
        </p:spPr>
      </p:pic>
      <p:sp>
        <p:nvSpPr>
          <p:cNvPr id="1546" name="Rounded Rectangular Callout 2"/>
          <p:cNvSpPr/>
          <p:nvPr/>
        </p:nvSpPr>
        <p:spPr>
          <a:xfrm>
            <a:off x="609480" y="2590920"/>
            <a:ext cx="3353040" cy="3504960"/>
          </a:xfrm>
          <a:prstGeom prst="wedgeRoundRectCallout">
            <a:avLst>
              <a:gd name="adj1" fmla="val 121435"/>
              <a:gd name="adj2" fmla="val -47532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covers maintaining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agre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tween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subjec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verb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914400" y="1523880"/>
            <a:ext cx="7315200" cy="3733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 subject-verb agreement item on an objective test might look like this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0206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ample Item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9" name="TextBox 3"/>
          <p:cNvSpPr/>
          <p:nvPr/>
        </p:nvSpPr>
        <p:spPr>
          <a:xfrm>
            <a:off x="762120" y="1371600"/>
            <a:ext cx="76197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foods that provide good nutrition is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ten the least tasty; a hamburger and fries,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 the other hand, satisfy the tongue but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og the arte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v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tisf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0" name="TextBox 10"/>
          <p:cNvSpPr/>
          <p:nvPr/>
        </p:nvSpPr>
        <p:spPr>
          <a:xfrm>
            <a:off x="762120" y="1371600"/>
            <a:ext cx="7619760" cy="53341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foods tha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rovi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good nutritio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ten the least tasty; a hamburger and fries,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 the other hand,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atisf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tongue bu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og the arte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v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tisf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TextBox 11"/>
          <p:cNvSpPr/>
          <p:nvPr/>
        </p:nvSpPr>
        <p:spPr>
          <a:xfrm>
            <a:off x="762120" y="1371600"/>
            <a:ext cx="7619760" cy="53341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foods tha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rovi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good nutrition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ten the least tasty; a hamburger and fries,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 the other hand,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atisf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tongue bu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og the arte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v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tisf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2" name="Picture 17" descr="point.jpg"/>
          <p:cNvPicPr/>
          <p:nvPr/>
        </p:nvPicPr>
        <p:blipFill>
          <a:blip r:embed="rId1"/>
          <a:stretch/>
        </p:blipFill>
        <p:spPr>
          <a:xfrm>
            <a:off x="8077320" y="3886200"/>
            <a:ext cx="744480" cy="2743200"/>
          </a:xfrm>
          <a:prstGeom prst="rect">
            <a:avLst/>
          </a:prstGeom>
          <a:ln w="0">
            <a:noFill/>
          </a:ln>
        </p:spPr>
      </p:pic>
      <p:sp>
        <p:nvSpPr>
          <p:cNvPr id="1553" name="Rounded Rectangular Callout 18"/>
          <p:cNvSpPr/>
          <p:nvPr/>
        </p:nvSpPr>
        <p:spPr>
          <a:xfrm>
            <a:off x="4343400" y="4191120"/>
            <a:ext cx="2209680" cy="1828800"/>
          </a:xfrm>
          <a:prstGeom prst="wedgeRoundRectCallout">
            <a:avLst>
              <a:gd name="adj1" fmla="val 129601"/>
              <a:gd name="adj2" fmla="val -4320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es disagreement happen at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provi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or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satisfy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4" name="Rounded Rectangular Callout 19"/>
          <p:cNvSpPr/>
          <p:nvPr/>
        </p:nvSpPr>
        <p:spPr>
          <a:xfrm>
            <a:off x="4343400" y="4191120"/>
            <a:ext cx="2209680" cy="1828800"/>
          </a:xfrm>
          <a:prstGeom prst="wedgeRoundRectCallout">
            <a:avLst>
              <a:gd name="adj1" fmla="val 129601"/>
              <a:gd name="adj2" fmla="val -4320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needs to be the plural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which option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B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marL="465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reement in a Nutshell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6" name="Text Box 5"/>
          <p:cNvSpPr/>
          <p:nvPr/>
        </p:nvSpPr>
        <p:spPr>
          <a:xfrm>
            <a:off x="3657600" y="16002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elepha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rumpet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for a pean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Text Box 6"/>
          <p:cNvSpPr/>
          <p:nvPr/>
        </p:nvSpPr>
        <p:spPr>
          <a:xfrm>
            <a:off x="3657600" y="4038480"/>
            <a:ext cx="449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elepha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trumpe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for peanu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Text Box 13"/>
          <p:cNvSpPr/>
          <p:nvPr/>
        </p:nvSpPr>
        <p:spPr>
          <a:xfrm>
            <a:off x="3657600" y="28954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elepha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singular subject</a:t>
            </a:r>
            <a:br>
              <a:rPr sz="2400"/>
            </a:b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trumpe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singular ver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9" name="Text Box 14"/>
          <p:cNvSpPr/>
          <p:nvPr/>
        </p:nvSpPr>
        <p:spPr>
          <a:xfrm>
            <a:off x="3657600" y="541008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elephan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plural subject</a:t>
            </a:r>
            <a:br>
              <a:rPr sz="2400"/>
            </a:b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trump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plural ver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0" name="Picture 12" descr="elephant.jpg"/>
          <p:cNvPicPr/>
          <p:nvPr/>
        </p:nvPicPr>
        <p:blipFill>
          <a:blip r:embed="rId1"/>
          <a:stretch/>
        </p:blipFill>
        <p:spPr>
          <a:xfrm>
            <a:off x="1143000" y="1676520"/>
            <a:ext cx="1909800" cy="2401920"/>
          </a:xfrm>
          <a:prstGeom prst="rect">
            <a:avLst/>
          </a:prstGeom>
          <a:ln w="0">
            <a:noFill/>
          </a:ln>
        </p:spPr>
      </p:pic>
      <p:pic>
        <p:nvPicPr>
          <p:cNvPr id="1561" name="Picture 13" descr="elephant.jpg"/>
          <p:cNvPicPr/>
          <p:nvPr/>
        </p:nvPicPr>
        <p:blipFill>
          <a:blip r:embed="rId2"/>
          <a:stretch/>
        </p:blipFill>
        <p:spPr>
          <a:xfrm>
            <a:off x="533520" y="4495680"/>
            <a:ext cx="1528560" cy="1922760"/>
          </a:xfrm>
          <a:prstGeom prst="rect">
            <a:avLst/>
          </a:prstGeom>
          <a:ln w="0">
            <a:noFill/>
          </a:ln>
        </p:spPr>
      </p:pic>
      <p:pic>
        <p:nvPicPr>
          <p:cNvPr id="1562" name="Picture 14" descr="elephant.jpg"/>
          <p:cNvPicPr/>
          <p:nvPr/>
        </p:nvPicPr>
        <p:blipFill>
          <a:blip r:embed="rId3"/>
          <a:stretch/>
        </p:blipFill>
        <p:spPr>
          <a:xfrm>
            <a:off x="2133720" y="4495680"/>
            <a:ext cx="1528560" cy="19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lepha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401"/>
                            </p:stCondLst>
                            <p:childTnLst>
                              <p:par>
                                <p:cTn id="1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lepha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901"/>
                            </p:stCondLst>
                            <p:childTnLst>
                              <p:par>
                                <p:cTn id="11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3" name="Picture 3" descr="lookat.jpg"/>
          <p:cNvPicPr/>
          <p:nvPr/>
        </p:nvPicPr>
        <p:blipFill>
          <a:blip r:embed="rId1"/>
          <a:stretch/>
        </p:blipFill>
        <p:spPr>
          <a:xfrm>
            <a:off x="4876920" y="1600200"/>
            <a:ext cx="3705120" cy="4876920"/>
          </a:xfrm>
          <a:prstGeom prst="rect">
            <a:avLst/>
          </a:prstGeom>
          <a:ln w="0">
            <a:noFill/>
          </a:ln>
        </p:spPr>
      </p:pic>
      <p:sp>
        <p:nvSpPr>
          <p:cNvPr id="1564" name="Rounded Rectangular Callout 2"/>
          <p:cNvSpPr/>
          <p:nvPr/>
        </p:nvSpPr>
        <p:spPr>
          <a:xfrm>
            <a:off x="533520" y="3657600"/>
            <a:ext cx="3581280" cy="2438280"/>
          </a:xfrm>
          <a:prstGeom prst="wedgeRoundRectCallout">
            <a:avLst>
              <a:gd name="adj1" fmla="val 117833"/>
              <a:gd name="adj2" fmla="val -57662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present ten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singul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rbs end in the suffix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plural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rbs do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380880" y="350640"/>
            <a:ext cx="8382240" cy="1935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wo (or more) singular nouns joined by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make a</a:t>
            </a: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plural</a:t>
            </a: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ubject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7391520" cy="13716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rmAutofit/>
          </a:bodyPr>
          <a:p>
            <a:pPr lvl="1" marL="347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chicken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wing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pork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ri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s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untouched on Ruth’s plat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67" name="Picture 3" descr="strut.jpg"/>
          <p:cNvPicPr/>
          <p:nvPr/>
        </p:nvPicPr>
        <p:blipFill>
          <a:blip r:embed="rId1"/>
          <a:stretch/>
        </p:blipFill>
        <p:spPr>
          <a:xfrm>
            <a:off x="1752480" y="3513240"/>
            <a:ext cx="1143000" cy="3344760"/>
          </a:xfrm>
          <a:prstGeom prst="rect">
            <a:avLst/>
          </a:prstGeom>
          <a:ln w="0">
            <a:noFill/>
          </a:ln>
        </p:spPr>
      </p:pic>
      <p:sp>
        <p:nvSpPr>
          <p:cNvPr id="1568" name="Rounded Rectangular Callout 4"/>
          <p:cNvSpPr/>
          <p:nvPr/>
        </p:nvSpPr>
        <p:spPr>
          <a:xfrm>
            <a:off x="3886200" y="4495680"/>
            <a:ext cx="3657600" cy="1905120"/>
          </a:xfrm>
          <a:prstGeom prst="wedgeRoundRectCallout">
            <a:avLst>
              <a:gd name="adj1" fmla="val -92282"/>
              <a:gd name="adj2" fmla="val -71888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cause there’s no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the end of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s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you know it’s a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plur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r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6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431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931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1027"/>
          <p:cNvSpPr/>
          <p:nvPr/>
        </p:nvSpPr>
        <p:spPr>
          <a:xfrm>
            <a:off x="685800" y="2895480"/>
            <a:ext cx="7772400" cy="10447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14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Every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cken wing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k rib sit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ntouched on Ruth’s pl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24685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hen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each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or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every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precedes two (or more) singular nouns joined by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 you have a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ingular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subject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71" name="Picture 3" descr="leaning.jpg"/>
          <p:cNvPicPr/>
          <p:nvPr/>
        </p:nvPicPr>
        <p:blipFill>
          <a:blip r:embed="rId1"/>
          <a:stretch/>
        </p:blipFill>
        <p:spPr>
          <a:xfrm>
            <a:off x="1219320" y="3825720"/>
            <a:ext cx="1143000" cy="3032280"/>
          </a:xfrm>
          <a:prstGeom prst="rect">
            <a:avLst/>
          </a:prstGeom>
          <a:ln w="0">
            <a:noFill/>
          </a:ln>
        </p:spPr>
      </p:pic>
      <p:sp>
        <p:nvSpPr>
          <p:cNvPr id="1572" name="Rounded Rectangular Callout 4"/>
          <p:cNvSpPr/>
          <p:nvPr/>
        </p:nvSpPr>
        <p:spPr>
          <a:xfrm>
            <a:off x="5257800" y="4267080"/>
            <a:ext cx="3200400" cy="1905120"/>
          </a:xfrm>
          <a:prstGeom prst="wedgeRoundRectCallout">
            <a:avLst>
              <a:gd name="adj1" fmla="val -148763"/>
              <a:gd name="adj2" fmla="val -44689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cause ther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the end of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s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you know it’s a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singul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r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5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3641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141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5:35:09Z</dcterms:created>
  <dc:creator>Robin L. Simmons</dc:creator>
  <dc:description>This presentation is ©1997 - 2014 by Robin L. Simmons. All Rights Reserved.</dc:description>
  <cp:keywords>subjects verbs subject-verb agreement grammar Grammar Bytes! Robin L. Simmons</cp:keywords>
  <dc:language>en-US</dc:language>
  <cp:lastModifiedBy>Nadia Williams</cp:lastModifiedBy>
  <dcterms:modified xsi:type="dcterms:W3CDTF">2014-03-12T14:35:00Z</dcterms:modified>
  <cp:revision>358</cp:revision>
  <dc:subject/>
  <dc:title>Subject-Verb Agree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utoReflect">
    <vt:bool>0</vt:bool>
  </property>
  <property fmtid="{D5CDD505-2E9C-101B-9397-08002B2CF9AE}" pid="3" name="KeepGraph">
    <vt:bool>0</vt:bool>
  </property>
  <property fmtid="{D5CDD505-2E9C-101B-9397-08002B2CF9AE}" pid="4" name="ShowPercent">
    <vt:bool>1</vt:bool>
  </property>
  <property fmtid="{D5CDD505-2E9C-101B-9397-08002B2CF9AE}" pid="5" name="ShowTimer">
    <vt:bool>1</vt:bool>
  </property>
</Properties>
</file>